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C2F0-E55B-4CF2-B81A-346A4245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9D38-3D04-41B7-9284-8D9F31B7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448-A70B-40F6-925C-C8A49034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2B39-B87D-4DBB-841E-88EC1650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F40A-E06E-412F-A2E8-B4D1EA0C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D3F-0810-48B6-A6D0-7A8BAD00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FF4E-EEEC-4751-8E9A-7830B7A9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901-0939-4F4D-8723-2A9CD6D1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FDB-D1B2-409B-A987-315AD8EB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E4D-D8EF-49FF-A259-ED4D9606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ED9E-38A7-44C5-BC65-0588C52B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1A75-6EB5-4159-82D3-3FAAA151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D69B-2F6F-4F66-9F31-C07AB7141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Structure Exerc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89154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Structure Review Qu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each of the following sentences carefully.  Write the corresponding letter next to the sentence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Correct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B.  Fused sente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pl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 Fra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Quebec is famous for its maple sugar, and sugaring time is very important in French-Canadian villa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Ann went horseback riding every weekend, she rode in the annual horse show every sum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The fastest runner is Adam he is on the track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We had an assembly today; the high school jazz ensemble per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Increases in our taxes for the last three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Several birds built nests near our school we took pictures of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The snow is too slushy, consequently Monica and I are not going ski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Drive to the end of the street and turn 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 She used to miss a lot of shots; now she is a skilled player who scores many points each g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 The houses were old, however, they were brightly painted and well maint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0155" t="21878" r="9376" b="8333"/>
          <a:stretch/>
        </p:blipFill>
        <p:spPr>
          <a:xfrm>
            <a:off x="228600" y="1295280"/>
            <a:ext cx="7848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32814" t="21878" r="3906" b="16666"/>
          <a:stretch/>
        </p:blipFill>
        <p:spPr>
          <a:xfrm>
            <a:off x="533520" y="0"/>
            <a:ext cx="792468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4584" r="26564" b="291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18753" r="25003" b="20835"/>
          <a:stretch/>
        </p:blipFill>
        <p:spPr>
          <a:xfrm>
            <a:off x="-22860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952880" y="2362320"/>
            <a:ext cx="190512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pop had explo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14584" r="25782" b="208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95680" y="2286000"/>
            <a:ext cx="365760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pop had exploded.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mma sp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14584" r="9376" b="39583"/>
          <a:stretch/>
        </p:blipFill>
        <p:spPr>
          <a:xfrm>
            <a:off x="0" y="2286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20835" r="35937" b="27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14584" r="29687" b="30211"/>
          <a:stretch/>
        </p:blipFill>
        <p:spPr>
          <a:xfrm>
            <a:off x="0" y="228600"/>
            <a:ext cx="91440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7:38:31Z</dcterms:created>
  <dc:creator>nbdoe</dc:creator>
  <dc:description/>
  <dc:language>en-US</dc:language>
  <cp:lastModifiedBy>nbdoe</cp:lastModifiedBy>
  <dcterms:modified xsi:type="dcterms:W3CDTF">2007-10-26T18:12:16Z</dcterms:modified>
  <cp:revision>6</cp:revision>
  <dc:subject/>
  <dc:title>Sentence Structure Exercises</dc:title>
</cp:coreProperties>
</file>